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10F-4441-41E8-849D-5F5A6A20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1A9-38CC-4F86-B5B9-431BDBE6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7F9-F1A7-4699-8EE7-48381AE5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C85-44FE-4515-8DE9-88945E01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5B4-63DE-4F14-8827-A388AB52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7FD-A2B2-4D95-81E2-4F815E4E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03F-EDC8-48C1-BAE0-533E6A6E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EEE-B834-4CEC-83A8-3A871196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5EB-415C-47B6-9CFC-81351A33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680-9A58-47AD-807B-3162E691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87C-D09B-48FE-B049-414DCAD0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222-F28E-427F-AB32-045A2741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B658-9DB7-41FA-989A-8483A578D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 and Water Bio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larissa Gor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6324120" y="5334120"/>
            <a:ext cx="25909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Coral Reefs are located in tropical oceans near the equa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4771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The largest Coral Reef is the Great Barrier Reef in 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ral Reefs are typically found at a depth less than 150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ral Reefs grow less than three centimeters a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3360" y="-820800"/>
            <a:ext cx="26956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63360" y="-820800"/>
            <a:ext cx="27054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l Reef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1297080" y="2286000"/>
            <a:ext cx="2345760" cy="1685880"/>
            <a:chOff x="1297080" y="2286000"/>
            <a:chExt cx="2345760" cy="1685880"/>
          </a:xfrm>
        </p:grpSpPr>
        <p:pic>
          <p:nvPicPr>
            <p:cNvPr id="211" name="Picture 10" descr=""/>
            <p:cNvPicPr/>
            <p:nvPr/>
          </p:nvPicPr>
          <p:blipFill>
            <a:blip r:embed="rId2"/>
            <a:stretch/>
          </p:blipFill>
          <p:spPr>
            <a:xfrm>
              <a:off x="1392120" y="2286000"/>
              <a:ext cx="22507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1"/>
            <p:cNvSpPr/>
            <p:nvPr/>
          </p:nvSpPr>
          <p:spPr>
            <a:xfrm>
              <a:off x="1297080" y="23036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pon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"/>
          <p:cNvGrpSpPr/>
          <p:nvPr/>
        </p:nvGrpSpPr>
        <p:grpSpPr>
          <a:xfrm>
            <a:off x="290520" y="4807080"/>
            <a:ext cx="1996920" cy="1285920"/>
            <a:chOff x="290520" y="4807080"/>
            <a:chExt cx="1996920" cy="1285920"/>
          </a:xfrm>
        </p:grpSpPr>
        <p:pic>
          <p:nvPicPr>
            <p:cNvPr id="214" name="Picture 11" descr=""/>
            <p:cNvPicPr/>
            <p:nvPr/>
          </p:nvPicPr>
          <p:blipFill>
            <a:blip r:embed="rId3"/>
            <a:stretch/>
          </p:blipFill>
          <p:spPr>
            <a:xfrm>
              <a:off x="290520" y="4807080"/>
              <a:ext cx="18003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Box 2"/>
            <p:cNvSpPr/>
            <p:nvPr/>
          </p:nvSpPr>
          <p:spPr>
            <a:xfrm>
              <a:off x="839520" y="48247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Clow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4654440" y="1255680"/>
            <a:ext cx="1752840" cy="1603440"/>
            <a:chOff x="4654440" y="1255680"/>
            <a:chExt cx="1752840" cy="1603440"/>
          </a:xfrm>
        </p:grpSpPr>
        <p:pic>
          <p:nvPicPr>
            <p:cNvPr id="217" name="Picture 12" descr=""/>
            <p:cNvPicPr/>
            <p:nvPr/>
          </p:nvPicPr>
          <p:blipFill>
            <a:blip r:embed="rId4"/>
            <a:stretch/>
          </p:blipFill>
          <p:spPr>
            <a:xfrm>
              <a:off x="4654440" y="1255680"/>
              <a:ext cx="16052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5"/>
            <p:cNvSpPr/>
            <p:nvPr/>
          </p:nvSpPr>
          <p:spPr>
            <a:xfrm>
              <a:off x="5035320" y="2379600"/>
              <a:ext cx="13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l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8"/>
          <p:cNvGrpSpPr/>
          <p:nvPr/>
        </p:nvGrpSpPr>
        <p:grpSpPr>
          <a:xfrm>
            <a:off x="3852720" y="4529160"/>
            <a:ext cx="2011680" cy="1336680"/>
            <a:chOff x="3852720" y="4529160"/>
            <a:chExt cx="2011680" cy="1336680"/>
          </a:xfrm>
        </p:grpSpPr>
        <p:pic>
          <p:nvPicPr>
            <p:cNvPr id="220" name="Picture 13" descr=""/>
            <p:cNvPicPr/>
            <p:nvPr/>
          </p:nvPicPr>
          <p:blipFill>
            <a:blip r:embed="rId5"/>
            <a:stretch/>
          </p:blipFill>
          <p:spPr>
            <a:xfrm>
              <a:off x="3852720" y="4529160"/>
              <a:ext cx="201168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7"/>
            <p:cNvSpPr/>
            <p:nvPr/>
          </p:nvSpPr>
          <p:spPr>
            <a:xfrm>
              <a:off x="4258800" y="4529160"/>
              <a:ext cx="160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ngro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6" descr="http://files.myopera.com/woomera/albums/1982361/Deep_Sea_Wallpaper_by_orangeillini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ep Se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314840" y="4998960"/>
            <a:ext cx="16765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d050"/>
                </a:solidFill>
                <a:latin typeface="Arial"/>
              </a:rPr>
              <a:t>The Deep Sea is located at the lowest part of the oce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010280" y="259092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Life in the sea is incredibly r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It barely gets above 0 deg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Some times it may get very low in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3360" y="-8809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63360" y="-798480"/>
            <a:ext cx="2772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63360" y="-798480"/>
            <a:ext cx="2772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52280" y="1523880"/>
            <a:ext cx="3353040" cy="1390680"/>
            <a:chOff x="152280" y="1523880"/>
            <a:chExt cx="3353040" cy="1390680"/>
          </a:xfrm>
        </p:grpSpPr>
        <p:pic>
          <p:nvPicPr>
            <p:cNvPr id="230" name="Picture 12" descr="http://upload.wikimedia.org/wikipedia/commons/thumb/4/44/Jelly_cc11.jpg/220px-Jelly_cc11.jpg"/>
            <p:cNvPicPr/>
            <p:nvPr/>
          </p:nvPicPr>
          <p:blipFill>
            <a:blip r:embed="rId2"/>
            <a:stretch/>
          </p:blipFill>
          <p:spPr>
            <a:xfrm>
              <a:off x="152280" y="1523880"/>
              <a:ext cx="2095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8"/>
            <p:cNvSpPr/>
            <p:nvPr/>
          </p:nvSpPr>
          <p:spPr>
            <a:xfrm>
              <a:off x="228240" y="1523880"/>
              <a:ext cx="32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Jelly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14"/>
          <p:cNvSpPr/>
          <p:nvPr/>
        </p:nvSpPr>
        <p:spPr>
          <a:xfrm>
            <a:off x="6336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3"/>
          <p:cNvGrpSpPr/>
          <p:nvPr/>
        </p:nvGrpSpPr>
        <p:grpSpPr>
          <a:xfrm>
            <a:off x="457200" y="4191120"/>
            <a:ext cx="3124080" cy="1847880"/>
            <a:chOff x="457200" y="4191120"/>
            <a:chExt cx="3124080" cy="1847880"/>
          </a:xfrm>
        </p:grpSpPr>
        <p:pic>
          <p:nvPicPr>
            <p:cNvPr id="234" name="Picture 16" descr="http://www.hoax-slayer.com/images/original-shark-pic.jpg"/>
            <p:cNvPicPr/>
            <p:nvPr/>
          </p:nvPicPr>
          <p:blipFill>
            <a:blip r:embed="rId3"/>
            <a:stretch/>
          </p:blipFill>
          <p:spPr>
            <a:xfrm>
              <a:off x="457200" y="4191120"/>
              <a:ext cx="251460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2"/>
            <p:cNvSpPr/>
            <p:nvPr/>
          </p:nvSpPr>
          <p:spPr>
            <a:xfrm>
              <a:off x="1600200" y="56386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3962520" y="4800600"/>
            <a:ext cx="2895480" cy="1838160"/>
            <a:chOff x="3962520" y="4800600"/>
            <a:chExt cx="2895480" cy="1838160"/>
          </a:xfrm>
        </p:grpSpPr>
        <p:pic>
          <p:nvPicPr>
            <p:cNvPr id="237" name="Picture 18" descr="http://images2.wikia.nocookie.net/__cb20120610134316/animalcrossing/images/0/0e/Real_Life_Squid.jpg"/>
            <p:cNvPicPr/>
            <p:nvPr/>
          </p:nvPicPr>
          <p:blipFill>
            <a:blip r:embed="rId4"/>
            <a:stretch/>
          </p:blipFill>
          <p:spPr>
            <a:xfrm>
              <a:off x="3962520" y="4800600"/>
              <a:ext cx="289548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15"/>
            <p:cNvSpPr/>
            <p:nvPr/>
          </p:nvSpPr>
          <p:spPr>
            <a:xfrm>
              <a:off x="4038480" y="5029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20"/>
          <p:cNvSpPr/>
          <p:nvPr/>
        </p:nvSpPr>
        <p:spPr>
          <a:xfrm>
            <a:off x="63360" y="-774720"/>
            <a:ext cx="2286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0"/>
          <p:cNvGrpSpPr/>
          <p:nvPr/>
        </p:nvGrpSpPr>
        <p:grpSpPr>
          <a:xfrm>
            <a:off x="3581280" y="1905120"/>
            <a:ext cx="2857680" cy="2009520"/>
            <a:chOff x="3581280" y="1905120"/>
            <a:chExt cx="2857680" cy="2009520"/>
          </a:xfrm>
        </p:grpSpPr>
        <p:pic>
          <p:nvPicPr>
            <p:cNvPr id="241" name="Picture 22" descr="http://upload.wikimedia.org/wikipedia/commons/thumb/2/28/Kelp_In_Freycinet_Tasmania.jpg/300px-Kelp_In_Freycinet_Tasmania.jpg"/>
            <p:cNvPicPr/>
            <p:nvPr/>
          </p:nvPicPr>
          <p:blipFill>
            <a:blip r:embed="rId5"/>
            <a:stretch/>
          </p:blipFill>
          <p:spPr>
            <a:xfrm>
              <a:off x="3581280" y="1905120"/>
              <a:ext cx="285768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19"/>
            <p:cNvSpPr/>
            <p:nvPr/>
          </p:nvSpPr>
          <p:spPr>
            <a:xfrm>
              <a:off x="3733560" y="2438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e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3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s 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00600" y="5866920"/>
            <a:ext cx="4114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locations of grass lands are in the Great Plains of North America, they can also be found in Northeastern Ch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7"/>
          <p:cNvGrpSpPr/>
          <p:nvPr/>
        </p:nvGrpSpPr>
        <p:grpSpPr>
          <a:xfrm>
            <a:off x="254160" y="1257480"/>
            <a:ext cx="3047400" cy="2171520"/>
            <a:chOff x="254160" y="1257480"/>
            <a:chExt cx="3047400" cy="2171520"/>
          </a:xfrm>
        </p:grpSpPr>
        <p:pic>
          <p:nvPicPr>
            <p:cNvPr id="48" name="Picture 5" descr="ANd9GcTsmrlV5gGgQm1UA58vCU5I0OaUXV4-ByTerx2x2Ot7b6Jp3t1G-w"/>
            <p:cNvPicPr/>
            <p:nvPr/>
          </p:nvPicPr>
          <p:blipFill>
            <a:blip r:embed="rId2"/>
            <a:stretch/>
          </p:blipFill>
          <p:spPr>
            <a:xfrm>
              <a:off x="254160" y="1257480"/>
              <a:ext cx="210456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7"/>
            <p:cNvSpPr/>
            <p:nvPr/>
          </p:nvSpPr>
          <p:spPr>
            <a:xfrm>
              <a:off x="1091880" y="27810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Prairie D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0"/>
          <p:cNvGrpSpPr/>
          <p:nvPr/>
        </p:nvGrpSpPr>
        <p:grpSpPr>
          <a:xfrm>
            <a:off x="6095160" y="599040"/>
            <a:ext cx="2858400" cy="3210840"/>
            <a:chOff x="6095160" y="599040"/>
            <a:chExt cx="2858400" cy="3210840"/>
          </a:xfrm>
        </p:grpSpPr>
        <p:pic>
          <p:nvPicPr>
            <p:cNvPr id="51" name="Picture 9" descr="220px-Coyote_by_Rebecca_Richardson"/>
            <p:cNvPicPr/>
            <p:nvPr/>
          </p:nvPicPr>
          <p:blipFill>
            <a:blip r:embed="rId3"/>
            <a:stretch/>
          </p:blipFill>
          <p:spPr>
            <a:xfrm>
              <a:off x="6858000" y="1219320"/>
              <a:ext cx="20955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0"/>
            <p:cNvSpPr/>
            <p:nvPr/>
          </p:nvSpPr>
          <p:spPr>
            <a:xfrm rot="19659600">
              <a:off x="6136560" y="1050480"/>
              <a:ext cx="189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66"/>
                  </a:solidFill>
                  <a:latin typeface="Arial"/>
                </a:rPr>
                <a:t>Coyot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8"/>
          <p:cNvGrpSpPr/>
          <p:nvPr/>
        </p:nvGrpSpPr>
        <p:grpSpPr>
          <a:xfrm>
            <a:off x="838080" y="4419720"/>
            <a:ext cx="4242240" cy="2190240"/>
            <a:chOff x="838080" y="4419720"/>
            <a:chExt cx="4242240" cy="2190240"/>
          </a:xfrm>
        </p:grpSpPr>
        <p:pic>
          <p:nvPicPr>
            <p:cNvPr id="54" name="Picture 12" descr="ANd9GcQ2Q5c0q4F4WtCbzBju9sh1UtziWsavFVmwvA0Dsvjsq7AqnWK9vA"/>
            <p:cNvPicPr/>
            <p:nvPr/>
          </p:nvPicPr>
          <p:blipFill>
            <a:blip r:embed="rId4"/>
            <a:stretch/>
          </p:blipFill>
          <p:spPr>
            <a:xfrm>
              <a:off x="838080" y="4419720"/>
              <a:ext cx="274320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3"/>
            <p:cNvSpPr/>
            <p:nvPr/>
          </p:nvSpPr>
          <p:spPr>
            <a:xfrm rot="19443600">
              <a:off x="2362680" y="5257440"/>
              <a:ext cx="281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99"/>
                  </a:solidFill>
                  <a:latin typeface="Arial"/>
                </a:rPr>
                <a:t>Bis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9"/>
          <p:cNvGrpSpPr/>
          <p:nvPr/>
        </p:nvGrpSpPr>
        <p:grpSpPr>
          <a:xfrm>
            <a:off x="4913280" y="3877920"/>
            <a:ext cx="2325240" cy="1911960"/>
            <a:chOff x="4913280" y="3877920"/>
            <a:chExt cx="2325240" cy="1911960"/>
          </a:xfrm>
        </p:grpSpPr>
        <p:pic>
          <p:nvPicPr>
            <p:cNvPr id="57" name="Picture 15" descr="th?id=I"/>
            <p:cNvPicPr/>
            <p:nvPr/>
          </p:nvPicPr>
          <p:blipFill>
            <a:blip r:embed="rId5"/>
            <a:stretch/>
          </p:blipFill>
          <p:spPr>
            <a:xfrm rot="20066400">
              <a:off x="5105160" y="4190760"/>
              <a:ext cx="1742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6"/>
            <p:cNvSpPr/>
            <p:nvPr/>
          </p:nvSpPr>
          <p:spPr>
            <a:xfrm>
              <a:off x="5562360" y="403848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Indian Gr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1"/>
          <p:cNvSpPr/>
          <p:nvPr/>
        </p:nvSpPr>
        <p:spPr>
          <a:xfrm>
            <a:off x="2666880" y="1143000"/>
            <a:ext cx="213372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sslands have deep soils that are very nutrient r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lants in a Grassland have to be adapted to the condition of dr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soil in the Grasslands there is clay, it helps keep moisture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1" descr="bore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aig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4640" y="6066000"/>
            <a:ext cx="3429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aiga Biomes can be found in Canada and Rus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609480" y="1600200"/>
            <a:ext cx="4800600" cy="2017800"/>
            <a:chOff x="609480" y="1600200"/>
            <a:chExt cx="4800600" cy="2017800"/>
          </a:xfrm>
        </p:grpSpPr>
        <p:pic>
          <p:nvPicPr>
            <p:cNvPr id="64" name="Picture 5" descr="th?id=I"/>
            <p:cNvPicPr/>
            <p:nvPr/>
          </p:nvPicPr>
          <p:blipFill>
            <a:blip r:embed="rId2"/>
            <a:stretch/>
          </p:blipFill>
          <p:spPr>
            <a:xfrm>
              <a:off x="609480" y="1600200"/>
              <a:ext cx="27432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2286000" y="31240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o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4"/>
          <p:cNvGrpSpPr/>
          <p:nvPr/>
        </p:nvGrpSpPr>
        <p:grpSpPr>
          <a:xfrm>
            <a:off x="3581280" y="2819520"/>
            <a:ext cx="2641680" cy="2514600"/>
            <a:chOff x="3581280" y="2819520"/>
            <a:chExt cx="2641680" cy="2514600"/>
          </a:xfrm>
        </p:grpSpPr>
        <p:pic>
          <p:nvPicPr>
            <p:cNvPr id="67" name="Picture 9" descr="th?id=I"/>
            <p:cNvPicPr/>
            <p:nvPr/>
          </p:nvPicPr>
          <p:blipFill>
            <a:blip r:embed="rId3"/>
            <a:stretch/>
          </p:blipFill>
          <p:spPr>
            <a:xfrm>
              <a:off x="3657600" y="2819520"/>
              <a:ext cx="23367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11"/>
            <p:cNvSpPr/>
            <p:nvPr/>
          </p:nvSpPr>
          <p:spPr>
            <a:xfrm>
              <a:off x="3581280" y="3200400"/>
              <a:ext cx="264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Be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6"/>
          <p:cNvGrpSpPr/>
          <p:nvPr/>
        </p:nvGrpSpPr>
        <p:grpSpPr>
          <a:xfrm>
            <a:off x="6019920" y="1066680"/>
            <a:ext cx="2657520" cy="1938600"/>
            <a:chOff x="6019920" y="1066680"/>
            <a:chExt cx="2657520" cy="1938600"/>
          </a:xfrm>
        </p:grpSpPr>
        <p:pic>
          <p:nvPicPr>
            <p:cNvPr id="70" name="Picture 13" descr="th?id=I"/>
            <p:cNvPicPr/>
            <p:nvPr/>
          </p:nvPicPr>
          <p:blipFill>
            <a:blip r:embed="rId4"/>
            <a:stretch/>
          </p:blipFill>
          <p:spPr>
            <a:xfrm>
              <a:off x="6019920" y="1066680"/>
              <a:ext cx="265752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5"/>
            <p:cNvSpPr/>
            <p:nvPr/>
          </p:nvSpPr>
          <p:spPr>
            <a:xfrm>
              <a:off x="6019920" y="11430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99"/>
                  </a:solidFill>
                  <a:latin typeface="Arial"/>
                </a:rPr>
                <a:t>Wol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5"/>
          <p:cNvGrpSpPr/>
          <p:nvPr/>
        </p:nvGrpSpPr>
        <p:grpSpPr>
          <a:xfrm>
            <a:off x="914400" y="4191120"/>
            <a:ext cx="2301840" cy="2438280"/>
            <a:chOff x="914400" y="4191120"/>
            <a:chExt cx="2301840" cy="2438280"/>
          </a:xfrm>
        </p:grpSpPr>
        <p:pic>
          <p:nvPicPr>
            <p:cNvPr id="73" name="Picture 23" descr="th?id=I"/>
            <p:cNvPicPr/>
            <p:nvPr/>
          </p:nvPicPr>
          <p:blipFill>
            <a:blip r:embed="rId5"/>
            <a:stretch/>
          </p:blipFill>
          <p:spPr>
            <a:xfrm>
              <a:off x="914400" y="4191120"/>
              <a:ext cx="182880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24"/>
            <p:cNvSpPr/>
            <p:nvPr/>
          </p:nvSpPr>
          <p:spPr>
            <a:xfrm>
              <a:off x="1447920" y="5867280"/>
              <a:ext cx="176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Evergreen tre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6"/>
          <p:cNvSpPr/>
          <p:nvPr/>
        </p:nvSpPr>
        <p:spPr>
          <a:xfrm>
            <a:off x="6324480" y="3581280"/>
            <a:ext cx="25146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Needles have qualities that help the trees survive the cold condi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Because of cold temperatures, decomposition is slow in the taig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The taiga covers 11% of the eart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3" descr="th?id=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66920" y="5562360"/>
            <a:ext cx="297180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deserts are located in Africa and North A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1"/>
          <p:cNvGrpSpPr/>
          <p:nvPr/>
        </p:nvGrpSpPr>
        <p:grpSpPr>
          <a:xfrm>
            <a:off x="3276720" y="1676520"/>
            <a:ext cx="1904400" cy="1752480"/>
            <a:chOff x="3276720" y="1676520"/>
            <a:chExt cx="1904400" cy="1752480"/>
          </a:xfrm>
        </p:grpSpPr>
        <p:pic>
          <p:nvPicPr>
            <p:cNvPr id="80" name="Picture 9" descr="th?id=I"/>
            <p:cNvPicPr/>
            <p:nvPr/>
          </p:nvPicPr>
          <p:blipFill>
            <a:blip r:embed="rId2"/>
            <a:stretch/>
          </p:blipFill>
          <p:spPr>
            <a:xfrm>
              <a:off x="3276720" y="1752480"/>
              <a:ext cx="14475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0"/>
            <p:cNvSpPr/>
            <p:nvPr/>
          </p:nvSpPr>
          <p:spPr>
            <a:xfrm>
              <a:off x="3352680" y="167652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am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5"/>
          <p:cNvGrpSpPr/>
          <p:nvPr/>
        </p:nvGrpSpPr>
        <p:grpSpPr>
          <a:xfrm>
            <a:off x="1828800" y="4572000"/>
            <a:ext cx="2438280" cy="1409760"/>
            <a:chOff x="1828800" y="4572000"/>
            <a:chExt cx="2438280" cy="1409760"/>
          </a:xfrm>
        </p:grpSpPr>
        <p:pic>
          <p:nvPicPr>
            <p:cNvPr id="83" name="Picture 13" descr="th?id=I"/>
            <p:cNvPicPr/>
            <p:nvPr/>
          </p:nvPicPr>
          <p:blipFill>
            <a:blip r:embed="rId3"/>
            <a:stretch/>
          </p:blipFill>
          <p:spPr>
            <a:xfrm>
              <a:off x="1828800" y="4572000"/>
              <a:ext cx="211428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4"/>
            <p:cNvSpPr/>
            <p:nvPr/>
          </p:nvSpPr>
          <p:spPr>
            <a:xfrm>
              <a:off x="2286000" y="45720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1"/>
          <p:cNvGrpSpPr/>
          <p:nvPr/>
        </p:nvGrpSpPr>
        <p:grpSpPr>
          <a:xfrm>
            <a:off x="6019920" y="1295280"/>
            <a:ext cx="2666880" cy="1447920"/>
            <a:chOff x="6019920" y="1295280"/>
            <a:chExt cx="2666880" cy="1447920"/>
          </a:xfrm>
        </p:grpSpPr>
        <p:pic>
          <p:nvPicPr>
            <p:cNvPr id="86" name="Picture 19" descr="th?id=I"/>
            <p:cNvPicPr/>
            <p:nvPr/>
          </p:nvPicPr>
          <p:blipFill>
            <a:blip r:embed="rId4"/>
            <a:stretch/>
          </p:blipFill>
          <p:spPr>
            <a:xfrm>
              <a:off x="6019920" y="1295280"/>
              <a:ext cx="1990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0"/>
            <p:cNvSpPr/>
            <p:nvPr/>
          </p:nvSpPr>
          <p:spPr>
            <a:xfrm>
              <a:off x="6781680" y="23623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Scorp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7"/>
          <p:cNvGrpSpPr/>
          <p:nvPr/>
        </p:nvGrpSpPr>
        <p:grpSpPr>
          <a:xfrm>
            <a:off x="5029200" y="3352680"/>
            <a:ext cx="2666880" cy="1828800"/>
            <a:chOff x="5029200" y="3352680"/>
            <a:chExt cx="2666880" cy="1828800"/>
          </a:xfrm>
        </p:grpSpPr>
        <p:pic>
          <p:nvPicPr>
            <p:cNvPr id="89" name="Picture 25" descr="th?id=I"/>
            <p:cNvPicPr/>
            <p:nvPr/>
          </p:nvPicPr>
          <p:blipFill>
            <a:blip r:embed="rId5"/>
            <a:stretch/>
          </p:blipFill>
          <p:spPr>
            <a:xfrm>
              <a:off x="5029200" y="3352680"/>
              <a:ext cx="22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6"/>
            <p:cNvSpPr/>
            <p:nvPr/>
          </p:nvSpPr>
          <p:spPr>
            <a:xfrm>
              <a:off x="5715000" y="35049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ac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28"/>
          <p:cNvSpPr/>
          <p:nvPr/>
        </p:nvSpPr>
        <p:spPr>
          <a:xfrm>
            <a:off x="0" y="1143000"/>
            <a:ext cx="213372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sert covers 20% of the ear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bout 10 percent of deserts are covered by sand du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erts are not always hot! Some deserts are scorching during the day but temperatures can drop below freezing when the sun goe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5" descr="ANd9GcSFJUDa_HROZCUUmTKtGAlQwwOE1-KpiBpUPtZHaH5X4bzaGK9Guw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48160" y="5715000"/>
            <a:ext cx="243828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The Tundra is located at the North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4120" y="3657600"/>
            <a:ext cx="36576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Tundras are regions so cold and with so little rain that tall trees cannot gro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Tundras are typically covered in snow for at least half the year. Even in summer the soil 1 m or so below the ground may be permanently froz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The Tundra covers 11% of the ear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ANd9GcQJTvP9o9aKGHVeDEetSnx1kNLJogdfRdZhiFGFuSCIPXcA2TuC"/>
          <p:cNvPicPr/>
          <p:nvPr/>
        </p:nvPicPr>
        <p:blipFill>
          <a:blip r:embed="rId2"/>
          <a:stretch/>
        </p:blipFill>
        <p:spPr>
          <a:xfrm rot="20617800">
            <a:off x="228240" y="609480"/>
            <a:ext cx="22860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0"/>
          <p:cNvGrpSpPr/>
          <p:nvPr/>
        </p:nvGrpSpPr>
        <p:grpSpPr>
          <a:xfrm>
            <a:off x="6248520" y="1066680"/>
            <a:ext cx="1866960" cy="2448000"/>
            <a:chOff x="6248520" y="1066680"/>
            <a:chExt cx="1866960" cy="2448000"/>
          </a:xfrm>
        </p:grpSpPr>
        <p:pic>
          <p:nvPicPr>
            <p:cNvPr id="98" name="Picture 8" descr="ANd9GcQDoU_04Z6nRvwAZYONT_Z9WfPItjUYsbUlMc6vHjtKFPT-rP0s"/>
            <p:cNvPicPr/>
            <p:nvPr/>
          </p:nvPicPr>
          <p:blipFill>
            <a:blip r:embed="rId3"/>
            <a:stretch/>
          </p:blipFill>
          <p:spPr>
            <a:xfrm>
              <a:off x="6248520" y="1066680"/>
              <a:ext cx="18669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9"/>
            <p:cNvSpPr/>
            <p:nvPr/>
          </p:nvSpPr>
          <p:spPr>
            <a:xfrm>
              <a:off x="6248520" y="28195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Tundra Wea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AutoShape 12"/>
          <p:cNvSpPr/>
          <p:nvPr/>
        </p:nvSpPr>
        <p:spPr>
          <a:xfrm>
            <a:off x="3762360" y="2819520"/>
            <a:ext cx="1619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3762360" y="2819520"/>
            <a:ext cx="1619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2362320" y="2895480"/>
            <a:ext cx="3200400" cy="1657080"/>
            <a:chOff x="2362320" y="2895480"/>
            <a:chExt cx="3200400" cy="1657080"/>
          </a:xfrm>
        </p:grpSpPr>
        <p:pic>
          <p:nvPicPr>
            <p:cNvPr id="103" name="Picture 16" descr="ANd9GcTgcSCnJ-CYv7k34pxd6jsxSi71zhq-FFBkeuWST1LgRQp6jQx6"/>
            <p:cNvPicPr/>
            <p:nvPr/>
          </p:nvPicPr>
          <p:blipFill>
            <a:blip r:embed="rId4"/>
            <a:stretch/>
          </p:blipFill>
          <p:spPr>
            <a:xfrm>
              <a:off x="2362320" y="2895480"/>
              <a:ext cx="232416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7"/>
            <p:cNvSpPr/>
            <p:nvPr/>
          </p:nvSpPr>
          <p:spPr>
            <a:xfrm>
              <a:off x="3733920" y="2895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Carib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1066680" y="5029200"/>
            <a:ext cx="3657600" cy="1632960"/>
            <a:chOff x="1066680" y="5029200"/>
            <a:chExt cx="3657600" cy="1632960"/>
          </a:xfrm>
        </p:grpSpPr>
        <p:pic>
          <p:nvPicPr>
            <p:cNvPr id="106" name="Picture 20" descr="flower"/>
            <p:cNvPicPr/>
            <p:nvPr/>
          </p:nvPicPr>
          <p:blipFill>
            <a:blip r:embed="rId5"/>
            <a:stretch/>
          </p:blipFill>
          <p:spPr>
            <a:xfrm>
              <a:off x="1066680" y="5029200"/>
              <a:ext cx="201924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1"/>
            <p:cNvSpPr/>
            <p:nvPr/>
          </p:nvSpPr>
          <p:spPr>
            <a:xfrm>
              <a:off x="2361960" y="601956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Yellow Tundra F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6" descr="http://t0.gstatic.com/images?q=tbn:ANd9GcQllifDO2KHocqs5jkm-ijBkZ4myWzn0vxBwDD9TYQpt35Wpqv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Deciduous Fores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19560" y="5486040"/>
            <a:ext cx="28954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ome Deciduous Forests are found in Europe and 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477120" y="2438280"/>
            <a:ext cx="213336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The average rainfall is 30 to 60 inches a ye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The average annual temperature in a deciduous forest is 50° 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The Deciduous Forest covers 5% of the ear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685800" y="4952880"/>
            <a:ext cx="2143080" cy="1609920"/>
            <a:chOff x="685800" y="4952880"/>
            <a:chExt cx="2143080" cy="1609920"/>
          </a:xfrm>
        </p:grpSpPr>
        <p:pic>
          <p:nvPicPr>
            <p:cNvPr id="113" name="Picture 6" descr="Raccoon"/>
            <p:cNvPicPr/>
            <p:nvPr/>
          </p:nvPicPr>
          <p:blipFill>
            <a:blip r:embed="rId2"/>
            <a:stretch/>
          </p:blipFill>
          <p:spPr>
            <a:xfrm>
              <a:off x="685800" y="4952880"/>
              <a:ext cx="214308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766440" y="6138720"/>
              <a:ext cx="18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ff01"/>
                  </a:solidFill>
                  <a:latin typeface="Arial"/>
                </a:rPr>
                <a:t>Racc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2"/>
          <p:cNvGrpSpPr/>
          <p:nvPr/>
        </p:nvGrpSpPr>
        <p:grpSpPr>
          <a:xfrm>
            <a:off x="3581280" y="3429000"/>
            <a:ext cx="2438640" cy="2505240"/>
            <a:chOff x="3581280" y="3429000"/>
            <a:chExt cx="2438640" cy="2505240"/>
          </a:xfrm>
        </p:grpSpPr>
        <p:pic>
          <p:nvPicPr>
            <p:cNvPr id="116" name="Picture 10" descr="Northern Cardinal"/>
            <p:cNvPicPr/>
            <p:nvPr/>
          </p:nvPicPr>
          <p:blipFill>
            <a:blip r:embed="rId3"/>
            <a:stretch/>
          </p:blipFill>
          <p:spPr>
            <a:xfrm>
              <a:off x="3581280" y="3429000"/>
              <a:ext cx="1905120" cy="25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1"/>
            <p:cNvSpPr/>
            <p:nvPr/>
          </p:nvSpPr>
          <p:spPr>
            <a:xfrm>
              <a:off x="4038480" y="518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Northern Card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304920" y="1600200"/>
            <a:ext cx="2133000" cy="2362320"/>
            <a:chOff x="304920" y="1600200"/>
            <a:chExt cx="2133000" cy="2362320"/>
          </a:xfrm>
        </p:grpSpPr>
        <p:pic>
          <p:nvPicPr>
            <p:cNvPr id="119" name="Picture 14" descr="Eastern Chipmonk"/>
            <p:cNvPicPr/>
            <p:nvPr/>
          </p:nvPicPr>
          <p:blipFill>
            <a:blip r:embed="rId4"/>
            <a:stretch/>
          </p:blipFill>
          <p:spPr>
            <a:xfrm>
              <a:off x="304920" y="1600200"/>
              <a:ext cx="190476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5"/>
            <p:cNvSpPr/>
            <p:nvPr/>
          </p:nvSpPr>
          <p:spPr>
            <a:xfrm>
              <a:off x="685440" y="35053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Chipmu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0"/>
          <p:cNvGrpSpPr/>
          <p:nvPr/>
        </p:nvGrpSpPr>
        <p:grpSpPr>
          <a:xfrm>
            <a:off x="3352680" y="1447920"/>
            <a:ext cx="3048120" cy="1247760"/>
            <a:chOff x="3352680" y="1447920"/>
            <a:chExt cx="3048120" cy="1247760"/>
          </a:xfrm>
        </p:grpSpPr>
        <p:pic>
          <p:nvPicPr>
            <p:cNvPr id="122" name="Picture 18" descr="beech"/>
            <p:cNvPicPr/>
            <p:nvPr/>
          </p:nvPicPr>
          <p:blipFill>
            <a:blip r:embed="rId5"/>
            <a:stretch/>
          </p:blipFill>
          <p:spPr>
            <a:xfrm>
              <a:off x="3733920" y="1447920"/>
              <a:ext cx="171432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9"/>
            <p:cNvSpPr/>
            <p:nvPr/>
          </p:nvSpPr>
          <p:spPr>
            <a:xfrm>
              <a:off x="3352680" y="16002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ff01"/>
                  </a:solidFill>
                  <a:latin typeface="Arial"/>
                </a:rPr>
                <a:t>American Beech T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22"/>
          <p:cNvSpPr/>
          <p:nvPr/>
        </p:nvSpPr>
        <p:spPr>
          <a:xfrm>
            <a:off x="3753000" y="2881440"/>
            <a:ext cx="1638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4"/>
          <p:cNvSpPr/>
          <p:nvPr/>
        </p:nvSpPr>
        <p:spPr>
          <a:xfrm>
            <a:off x="3753000" y="2881440"/>
            <a:ext cx="1638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1" descr="http://t3.gstatic.com/images?q=tbn:ANd9GcSzHfcF3tFh9_cxrnSVU3ULtMp-3tstsxogomNqJlhrQ5Wb8PrGI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Rainforest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2720" y="5105160"/>
            <a:ext cx="221004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Tropical Rainforests are located in South America and Af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6324480" y="1981080"/>
            <a:ext cx="2590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inforests now cover less than 6% of the Earth’s land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mperature rarely gets higher than 93 degrees Fahrenheit or drops below 68 degrees Fahrenh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opical Rainforest has more kinds of trees than any other area in the wor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304920" y="1447920"/>
            <a:ext cx="3504960" cy="1892520"/>
            <a:chOff x="304920" y="1447920"/>
            <a:chExt cx="3504960" cy="1892520"/>
          </a:xfrm>
        </p:grpSpPr>
        <p:pic>
          <p:nvPicPr>
            <p:cNvPr id="131" name="Picture 5" descr="http://t1.gstatic.com/images?q=tbn:ANd9GcRJ4qK3kK7Y4-9aYBGH9vtYPS2_Sp76cqHVNkWy1x4r__szyusA9A"/>
            <p:cNvPicPr/>
            <p:nvPr/>
          </p:nvPicPr>
          <p:blipFill>
            <a:blip r:embed="rId2"/>
            <a:stretch/>
          </p:blipFill>
          <p:spPr>
            <a:xfrm>
              <a:off x="304920" y="1447920"/>
              <a:ext cx="2466720" cy="18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>
              <a:off x="1295280" y="29721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Toco Tou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533520" y="3733920"/>
            <a:ext cx="1857240" cy="2457360"/>
            <a:chOff x="533520" y="3733920"/>
            <a:chExt cx="1857240" cy="2457360"/>
          </a:xfrm>
        </p:grpSpPr>
        <p:pic>
          <p:nvPicPr>
            <p:cNvPr id="134" name="Picture 7" descr="http://t3.gstatic.com/images?q=tbn:ANd9GcR6Mv14vUg74LfP07t8wTfYBRB3bBJCuoJzNpsn6Gx1qiUKerqp"/>
            <p:cNvPicPr/>
            <p:nvPr/>
          </p:nvPicPr>
          <p:blipFill>
            <a:blip r:embed="rId3"/>
            <a:stretch/>
          </p:blipFill>
          <p:spPr>
            <a:xfrm>
              <a:off x="533520" y="3733920"/>
              <a:ext cx="18572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10"/>
            <p:cNvSpPr/>
            <p:nvPr/>
          </p:nvSpPr>
          <p:spPr>
            <a:xfrm>
              <a:off x="762120" y="563904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Orangu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9"/>
          <p:cNvSpPr/>
          <p:nvPr/>
        </p:nvSpPr>
        <p:spPr>
          <a:xfrm>
            <a:off x="63360" y="-698400"/>
            <a:ext cx="19051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63360" y="-698400"/>
            <a:ext cx="19051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63360" y="-698400"/>
            <a:ext cx="19051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3124080" y="2514600"/>
            <a:ext cx="2743200" cy="1847880"/>
            <a:chOff x="3124080" y="2514600"/>
            <a:chExt cx="2743200" cy="1847880"/>
          </a:xfrm>
        </p:grpSpPr>
        <p:pic>
          <p:nvPicPr>
            <p:cNvPr id="140" name="Picture 15" descr="http://t0.gstatic.com/images?q=tbn:ANd9GcQCd8IZu1TDed4nag7muqzVszbU0KUd7IJULhG_8YcLWitLgGneaQ"/>
            <p:cNvPicPr/>
            <p:nvPr/>
          </p:nvPicPr>
          <p:blipFill>
            <a:blip r:embed="rId4"/>
            <a:stretch/>
          </p:blipFill>
          <p:spPr>
            <a:xfrm>
              <a:off x="3124080" y="251460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16"/>
            <p:cNvSpPr/>
            <p:nvPr/>
          </p:nvSpPr>
          <p:spPr>
            <a:xfrm>
              <a:off x="3428640" y="388620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narch Butterf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3200400" y="4800600"/>
            <a:ext cx="2743200" cy="1743120"/>
            <a:chOff x="3200400" y="4800600"/>
            <a:chExt cx="2743200" cy="1743120"/>
          </a:xfrm>
        </p:grpSpPr>
        <p:pic>
          <p:nvPicPr>
            <p:cNvPr id="143" name="Picture 17" descr="http://t1.gstatic.com/images?q=tbn:ANd9GcQGQaS_k-AjBjFH1sIdHPoL05vtt624PThDkQ0gmQWoQxcTDiMy-Q"/>
            <p:cNvPicPr/>
            <p:nvPr/>
          </p:nvPicPr>
          <p:blipFill>
            <a:blip r:embed="rId5"/>
            <a:stretch/>
          </p:blipFill>
          <p:spPr>
            <a:xfrm>
              <a:off x="3200400" y="4800600"/>
              <a:ext cx="2619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9"/>
            <p:cNvSpPr/>
            <p:nvPr/>
          </p:nvSpPr>
          <p:spPr>
            <a:xfrm>
              <a:off x="3733560" y="609624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Strangler Fi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7" descr="http://t2.gstatic.com/images?q=tbn:ANd9GcQXbdUsnLK2FPyZde7lZYwoxof49yNMGlvdSSx4KKec5_-nywHwC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705360" y="5334120"/>
            <a:ext cx="198108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vers are located on every continent except Antarc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6477120" y="274320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ongest river is the Nile 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ted States has 3,500,000 miles of 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arth is covered by 70.8%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457200" y="4724280"/>
            <a:ext cx="3429000" cy="1847880"/>
            <a:chOff x="457200" y="4724280"/>
            <a:chExt cx="3429000" cy="1847880"/>
          </a:xfrm>
        </p:grpSpPr>
        <p:pic>
          <p:nvPicPr>
            <p:cNvPr id="149" name="Picture 2" descr="http://t2.gstatic.com/images?q=tbn:ANd9GcQDw6wajtHxBRslcPGN0hf9ILsYcXyh2gSoFYAnweGtRpwuwEcu"/>
            <p:cNvPicPr/>
            <p:nvPr/>
          </p:nvPicPr>
          <p:blipFill>
            <a:blip r:embed="rId2"/>
            <a:stretch/>
          </p:blipFill>
          <p:spPr>
            <a:xfrm>
              <a:off x="457200" y="4724280"/>
              <a:ext cx="24670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5"/>
            <p:cNvSpPr/>
            <p:nvPr/>
          </p:nvSpPr>
          <p:spPr>
            <a:xfrm>
              <a:off x="1218960" y="609588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ll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4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3505320" y="4800600"/>
            <a:ext cx="2562120" cy="1781280"/>
            <a:chOff x="3505320" y="4800600"/>
            <a:chExt cx="2562120" cy="1781280"/>
          </a:xfrm>
        </p:grpSpPr>
        <p:pic>
          <p:nvPicPr>
            <p:cNvPr id="155" name="Picture 10" descr="http://t3.gstatic.com/images?q=tbn:ANd9GcS-hKx0Gv7kt5zo6XZCp75Oy0-4wW1QuwnKYFW3wS0-0Kc68hCAVQ"/>
            <p:cNvPicPr/>
            <p:nvPr/>
          </p:nvPicPr>
          <p:blipFill>
            <a:blip r:embed="rId3"/>
            <a:stretch/>
          </p:blipFill>
          <p:spPr>
            <a:xfrm>
              <a:off x="3505320" y="4800600"/>
              <a:ext cx="256212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1"/>
            <p:cNvSpPr/>
            <p:nvPr/>
          </p:nvSpPr>
          <p:spPr>
            <a:xfrm>
              <a:off x="3581280" y="61722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a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12"/>
          <p:cNvSpPr/>
          <p:nvPr/>
        </p:nvSpPr>
        <p:spPr>
          <a:xfrm>
            <a:off x="63360" y="-905040"/>
            <a:ext cx="24670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380880" y="2666880"/>
            <a:ext cx="3581640" cy="1946520"/>
            <a:chOff x="380880" y="2666880"/>
            <a:chExt cx="3581640" cy="1946520"/>
          </a:xfrm>
        </p:grpSpPr>
        <p:pic>
          <p:nvPicPr>
            <p:cNvPr id="159" name="Picture 14" descr="http://www.dogbreedinfo.com/images14/BabySnappingTurtle.JPG"/>
            <p:cNvPicPr/>
            <p:nvPr/>
          </p:nvPicPr>
          <p:blipFill>
            <a:blip r:embed="rId4"/>
            <a:stretch/>
          </p:blipFill>
          <p:spPr>
            <a:xfrm>
              <a:off x="380880" y="2666880"/>
              <a:ext cx="2590920" cy="19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5"/>
            <p:cNvSpPr/>
            <p:nvPr/>
          </p:nvSpPr>
          <p:spPr>
            <a:xfrm>
              <a:off x="838080" y="281916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napping 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16"/>
          <p:cNvSpPr/>
          <p:nvPr/>
        </p:nvSpPr>
        <p:spPr>
          <a:xfrm>
            <a:off x="63360" y="-88884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4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0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63360" y="-942840"/>
            <a:ext cx="235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4"/>
          <p:cNvSpPr/>
          <p:nvPr/>
        </p:nvSpPr>
        <p:spPr>
          <a:xfrm>
            <a:off x="63360" y="-942840"/>
            <a:ext cx="235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6"/>
          <p:cNvSpPr/>
          <p:nvPr/>
        </p:nvSpPr>
        <p:spPr>
          <a:xfrm>
            <a:off x="63360" y="-942840"/>
            <a:ext cx="235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8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1"/>
          <p:cNvSpPr/>
          <p:nvPr/>
        </p:nvSpPr>
        <p:spPr>
          <a:xfrm>
            <a:off x="63360" y="-88884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3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5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5"/>
          <p:cNvGrpSpPr/>
          <p:nvPr/>
        </p:nvGrpSpPr>
        <p:grpSpPr>
          <a:xfrm>
            <a:off x="3657600" y="2362320"/>
            <a:ext cx="2057400" cy="2166480"/>
            <a:chOff x="3657600" y="2362320"/>
            <a:chExt cx="2057400" cy="2166480"/>
          </a:xfrm>
        </p:grpSpPr>
        <p:pic>
          <p:nvPicPr>
            <p:cNvPr id="178" name="Picture 39" descr="http://farm3.static.flickr.com/2090/2244679592_58c3b65bb8.jpg"/>
            <p:cNvPicPr/>
            <p:nvPr/>
          </p:nvPicPr>
          <p:blipFill>
            <a:blip r:embed="rId5"/>
            <a:stretch/>
          </p:blipFill>
          <p:spPr>
            <a:xfrm>
              <a:off x="3657600" y="2362320"/>
              <a:ext cx="20574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34"/>
            <p:cNvSpPr/>
            <p:nvPr/>
          </p:nvSpPr>
          <p:spPr>
            <a:xfrm>
              <a:off x="4038480" y="38862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Arial"/>
                </a:rPr>
                <a:t>Fragrant Water Li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http://t3.gstatic.com/images?q=tbn:ANd9GcRlq0tlgKzGFk85TsS-445Y6PHpJTDedudk9p_8xArRINJ-ib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tland 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552720" y="5562360"/>
            <a:ext cx="25909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wetlands can be located in Australia and As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6629400" y="1447920"/>
            <a:ext cx="205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tlands help the environment because they have a natural supply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ditions are very moist and hum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nly place on Earth you can’t find a wetland biome is around the Arc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228600" y="1981080"/>
            <a:ext cx="2209680" cy="1400400"/>
            <a:chOff x="228600" y="1981080"/>
            <a:chExt cx="2209680" cy="1400400"/>
          </a:xfrm>
        </p:grpSpPr>
        <p:pic>
          <p:nvPicPr>
            <p:cNvPr id="187" name="Picture 11" descr="http://t1.gstatic.com/images?q=tbn:ANd9GcTSA-TMOfWl3IykoXKbQeHiqzuePiSoIsNEv5wXUU3YLmHGhNM3"/>
            <p:cNvPicPr/>
            <p:nvPr/>
          </p:nvPicPr>
          <p:blipFill>
            <a:blip r:embed="rId2"/>
            <a:stretch/>
          </p:blipFill>
          <p:spPr>
            <a:xfrm>
              <a:off x="228600" y="1981080"/>
              <a:ext cx="1981080" cy="14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8"/>
            <p:cNvSpPr/>
            <p:nvPr/>
          </p:nvSpPr>
          <p:spPr>
            <a:xfrm>
              <a:off x="533160" y="2057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iver ot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3"/>
          <p:cNvSpPr/>
          <p:nvPr/>
        </p:nvSpPr>
        <p:spPr>
          <a:xfrm>
            <a:off x="63360" y="-1079640"/>
            <a:ext cx="20480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3"/>
          <p:cNvGrpSpPr/>
          <p:nvPr/>
        </p:nvGrpSpPr>
        <p:grpSpPr>
          <a:xfrm>
            <a:off x="380880" y="4343400"/>
            <a:ext cx="4038840" cy="1857240"/>
            <a:chOff x="380880" y="4343400"/>
            <a:chExt cx="4038840" cy="1857240"/>
          </a:xfrm>
        </p:grpSpPr>
        <p:pic>
          <p:nvPicPr>
            <p:cNvPr id="191" name="Picture 15" descr="http://t0.gstatic.com/images?q=tbn:ANd9GcR1LFrkW1WKmVDYpVd4QvNIopAx4e48bciHRujWs891Qu06lf5j"/>
            <p:cNvPicPr/>
            <p:nvPr/>
          </p:nvPicPr>
          <p:blipFill>
            <a:blip r:embed="rId3"/>
            <a:stretch/>
          </p:blipFill>
          <p:spPr>
            <a:xfrm>
              <a:off x="380880" y="4343400"/>
              <a:ext cx="246708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12"/>
            <p:cNvSpPr/>
            <p:nvPr/>
          </p:nvSpPr>
          <p:spPr>
            <a:xfrm>
              <a:off x="761760" y="5715000"/>
              <a:ext cx="36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Green tree fr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6"/>
          <p:cNvGrpSpPr/>
          <p:nvPr/>
        </p:nvGrpSpPr>
        <p:grpSpPr>
          <a:xfrm>
            <a:off x="3733920" y="4038480"/>
            <a:ext cx="2514600" cy="2457720"/>
            <a:chOff x="3733920" y="4038480"/>
            <a:chExt cx="2514600" cy="2457720"/>
          </a:xfrm>
        </p:grpSpPr>
        <p:pic>
          <p:nvPicPr>
            <p:cNvPr id="194" name="Picture 17" descr="http://t0.gstatic.com/images?q=tbn:ANd9GcTPcIndiIs8muENZGG0EW52mIMRK3UDa0Avaek5iyzXXw4E2y4o_w"/>
            <p:cNvPicPr/>
            <p:nvPr/>
          </p:nvPicPr>
          <p:blipFill>
            <a:blip r:embed="rId4"/>
            <a:stretch/>
          </p:blipFill>
          <p:spPr>
            <a:xfrm>
              <a:off x="3733920" y="4038480"/>
              <a:ext cx="1857600" cy="24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15"/>
            <p:cNvSpPr/>
            <p:nvPr/>
          </p:nvSpPr>
          <p:spPr>
            <a:xfrm>
              <a:off x="3962520" y="59439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rred 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AutoShape 19"/>
          <p:cNvSpPr/>
          <p:nvPr/>
        </p:nvSpPr>
        <p:spPr>
          <a:xfrm>
            <a:off x="63360" y="-8431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6336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1"/>
          <p:cNvGrpSpPr/>
          <p:nvPr/>
        </p:nvGrpSpPr>
        <p:grpSpPr>
          <a:xfrm>
            <a:off x="3048120" y="1600200"/>
            <a:ext cx="3962160" cy="1962000"/>
            <a:chOff x="3048120" y="1600200"/>
            <a:chExt cx="3962160" cy="1962000"/>
          </a:xfrm>
        </p:grpSpPr>
        <p:pic>
          <p:nvPicPr>
            <p:cNvPr id="199" name="Picture 23" descr="http://www.aquaticdesign.net/wp-content/themes/aquatic-design-5/images/plants/pink-water-lotus-lg.jpg"/>
            <p:cNvPicPr/>
            <p:nvPr/>
          </p:nvPicPr>
          <p:blipFill>
            <a:blip r:embed="rId5"/>
            <a:stretch/>
          </p:blipFill>
          <p:spPr>
            <a:xfrm>
              <a:off x="3048120" y="1600200"/>
              <a:ext cx="274320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20"/>
            <p:cNvSpPr/>
            <p:nvPr/>
          </p:nvSpPr>
          <p:spPr>
            <a:xfrm>
              <a:off x="3505320" y="182880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Pink Water Lo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8:41:20Z</dcterms:created>
  <dc:creator>KG3291</dc:creator>
  <dc:description/>
  <dc:language>en-US</dc:language>
  <cp:lastModifiedBy>KG3291</cp:lastModifiedBy>
  <dcterms:modified xsi:type="dcterms:W3CDTF">2012-11-12T19:18:02Z</dcterms:modified>
  <cp:revision>23</cp:revision>
  <dc:subject/>
  <dc:title>Land and Water Biomes</dc:title>
</cp:coreProperties>
</file>